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2.png" ContentType="image/pn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418B58-91E2-492B-8E11-74E9112551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C8DE7D77-7A52-4384-A370-88977FF9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3C497B-1349-4A95-8977-8E9B577C2B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7F59F7-60D0-4DDB-AB45-F1B5BBB6627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3F348C-2F03-4BC8-8352-6A16070110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FE31CA-733B-49FA-8D0C-9B9636F8A2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EB890C-CA08-4B3C-A683-5822E8D372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AF15F9-50D8-49D9-B080-61F0D025AB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431066-10DF-4CFE-8514-A701E4938C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7C61722-E363-49D0-8B7C-E634F491C1C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694F14A-8F09-4CA4-8B3F-A413AA4F484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E6AF8EA-859D-44F2-B5CF-DCF16B4B17B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98901E7E-C93F-4818-B44F-442E7FB34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31898F-1D95-4BD4-B703-3AD134A622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C2B0AE-C2FF-4918-984A-7094B9F5059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5EE07E-8059-4680-8AC3-69AF2A9A75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13A477-5AB2-4211-BFFB-6E2EC73B754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D9EB10-A64E-4DE5-86DD-6325B4AC4D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587964-247B-422F-B7C2-7C1A100399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BFE28B-00E0-4813-A50D-29E2A4E200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EDBC0A-F04B-4F26-AC17-FDCDB33366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8FE3CD-C307-4DE8-B44B-4D3C19BBD2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FBC7F8-0EE4-4CD6-9E44-1566C78AAD5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39F19B3F-6691-456F-9D2F-E736D9961F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CA3B72D-4ED3-4F94-885D-C4CB7F1B99E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E3332CA-B700-4ABE-89E6-5459AADBD12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385894C-0A97-4368-949A-9A8CA43988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D7CC72-752A-4A9E-A3FE-4CA374709C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28AD261-A3E1-4E9B-BCB2-D597B126E8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C83BB0D-9490-4144-9506-935F33EC6E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FF53C0-A067-432F-9461-8EAB30EDE9E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BD788A-9C4C-4657-AD44-0C75F91162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5FED02-9512-4090-A8B2-6EB0ACCA2F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09BABA-0420-40B2-9D86-44838ACCC7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91703C-B13F-4888-8B63-DA6C91A467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BD812A7-4291-4A51-93D0-4EA3ABE60D4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0CE8748-7541-4825-8207-07974D1145E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82DE7F3-1600-49FA-AA82-5B495DB9E3E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3C96201-2220-4625-85FB-50BA53A50A5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08516D2-CBE4-4BC3-93FB-65DD4C84F47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6C732DB-A935-4265-86C6-7C3094DEAEA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21FD25-072E-4F4A-87A3-F7B7A1D04B3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AB2B4E-EE11-44E4-891C-8BCD098577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6773DA8-F0E2-4DE3-B065-E067A57296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1357DF-1C1C-433A-ABFC-EA38E780E6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22B138-F0E0-4155-B5C2-EF33F370D0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57FE01-7D43-4A58-B7A4-F2DDC7CD7E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D5CDE5-17AE-4C4D-A634-1A9DAB4FD1C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04C749-BE94-4FCC-BDDA-87BE79D6618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FC7BA98-754B-4DD7-B7CE-16FBE17DFC26}"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3806B02A-5299-4FAB-BEDC-21CA4B56198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2D0018C5-6EAF-431A-8D80-F2A0E2DD852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9491E8A4-8345-4AE2-8358-5FB39030D72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4616413E-DABF-4CC8-98C4-9D33DBD2C13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094D2E91-4516-44EE-91E6-B776FD6C524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1835F5F0-6671-4E90-A6A9-751C490DFE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5F16F020-877A-4BE8-A153-B8913AC5016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70A92070-9AFC-48D6-9755-8E380FE1E18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E2E97176-5463-471C-92FE-04C00D67D86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2D94BA2D-67B8-4780-A1F8-E11F697EA3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F60CB224-39F6-47B4-8CAC-A65F2753D5EF}"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6E8C0FAD-944C-42A4-AB47-E34CAAFE0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E496DC-3251-46B6-B1E4-599535716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06286C-3DD4-4233-89E2-78A93CD54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6A50B-5369-48E3-9D10-42D25D763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42FFA-6047-4787-B602-7C796C10B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F2099-221E-40E5-8AC0-46274DC94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DE5EFF7A-4DA1-438E-8190-45951BF3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4D082-255E-4DA7-BD46-42A4F65A8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C4ED7-A0AA-4A83-946E-9DEE239FF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5252A-36EF-49F4-B0BC-95C855DFE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7B0A5-C1E8-4FBB-8BE2-2C1153EFB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6D6D6-A557-4FC3-8727-7711DACD0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0BFC05-75AB-4A8C-ADFE-3CD4EF9530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A05995-6ACD-46A4-B578-0049091A5C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243DCAA-8873-4D5E-982E-14E412B541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6C2E3F-4392-422F-997A-6625BCDB03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F0F646-997B-4C11-BA24-DE48DF3233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6F1DF797-9939-435C-AF9D-E81F55C5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55C50A-11FA-4DDF-BC03-A950E7B55B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0086CA-D36B-4A00-BD3F-BBFE297B42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2BED41-993F-4B91-968F-3C342CB30A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CF94E6-BF36-4CC2-9904-6738A9933B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43C3D6-6729-4851-BED1-94CB645D67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3169BF-C3FB-4A07-8C64-A29D007299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048DE3-7949-4AC2-93BC-74900AB3FE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2E27A2-27E0-403B-8F8A-62FAFA2762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534B63-0F4A-4247-9892-0D58714A2E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8D6309-8935-4DD0-A5C7-8C497EB9ED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E70B708-E3B7-4D95-9EC3-E598696E9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419C31-11B8-470C-BDAE-83C2CBFBF9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EB0AAA-C8B5-4605-9D9C-19E0C72EDE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38957E-22D2-4E36-9B4C-4954B34C8D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4095DB-31CA-4FC4-A08F-14EB44E894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96547E-8DB5-44F7-9230-28702E1F97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894B75-4AA0-4626-B44B-0C5567FFB2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2B59A5-32BD-4C90-BE3C-0F0292210F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AA644B-3435-425D-B025-38E920E983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0F5A75-33BA-4221-91C6-77A72BA773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1EBBF8-D94A-416F-B19F-FF1F6BD4BE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DAD34B52-8943-4C96-84AD-24CD61070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F2EE96-EAF3-424D-A0FE-75719963AB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200405-DAD9-4393-B22D-8327DDCB59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4150EE-B252-4427-B581-2795C78948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BD4F66-E474-4981-97F9-E9E589B8A3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17311D-FCF8-4B58-9FA4-7438F97BB4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6D03FB-3525-49EB-92C8-CD55411065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2E773A-665A-4B94-B29C-0692FC4EBB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7EB9BB-DB95-42C5-BF07-4BD2851C3E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6F50EB-9480-4F95-B5EA-E8E7E87486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DAB0FF-3D73-4347-B590-08F0F42DDC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39CD8A74-A0E9-449E-A3E3-9E173A3DA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332D8FD-DE45-4DDD-BDF6-DCE18093EF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8E486CF-5705-4E01-9E07-2D13A003BE1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E22CC91-1436-436B-8431-16234FBE86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0C04516-93F4-411D-85EF-78AF3BB191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6A7C42-7FB2-46E9-A1E2-2F0A02AAD6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2D3BB5-262E-4B6D-B7A4-9864DE3724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6AA984-130E-4136-AB84-7452A5894B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E9EC00E-23F7-4235-A154-43CD6BA9C7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84546DE-0BA2-4C56-B299-1A0AAE2E47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448A65-0799-4D0A-964A-443B05C6D0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AECD794D-E106-435F-8675-37964EA16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830916-B2BA-4AFB-85F9-F687D6BAE7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24DDF9-D0EC-47B4-9C9F-D952907E3A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3083FF-95CC-4403-9504-7081214374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390AAB-5E41-47C3-8730-79632B7CCC5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0504FC-F0EA-43AA-9C9D-F6E9F0591A2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73259AD-4CFC-4E21-8CBB-4A276410E9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A5CA111-655C-4A2A-A4B8-CDB8D2BC6FE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B3C011-11A0-4BB9-B410-C6113DBB78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AEFAD6-192D-4A87-B9A8-26C0451232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994EEC-6489-47DA-B47F-EDCBD32ECB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33A1E3C4-F360-4E5D-8846-E77E27A9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E8016E-BF6A-4100-992B-41B659D0FB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0CC285-15AD-4035-8BF7-87746F13EC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546483-EEAD-4F53-8A8A-185FFF8644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B2C3F5-2D88-462A-B01B-0E50360E54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106FEE-AFC7-4775-BA64-6845668C26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860546B-DA78-4570-B753-E94E898730E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57A860-838E-476C-9411-73DDD16B706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B118B1D-0DB0-473D-A96D-A8CF4173AE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C198A1F-65F1-4B9C-A23E-344ADAECB6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34BDA6C-6A97-4BFF-A525-883A8A396AC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DC1E-5C21-48A6-A601-48FB19C047ED}"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D133-F4C9-4BD4-A4C3-372FDECC0D5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4466-98D4-4BA7-BFF9-B43BA566298C}"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0D57-9E6C-498D-8936-27A63B3AF2D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8FC4-EE1A-4B6F-8A04-C5B7159A236F}"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F2B1-B52D-4BBD-B716-800A6234860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BC2A-59B6-449B-AA23-FA712885FB5C}"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EBED-DAB6-4734-9648-CB2574D5641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61D9-415C-4ECA-87AE-729D876B4626}"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6C25-A027-42D5-91D5-1F6069FCA8B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9853-DC4F-47BA-BBB4-EDAF9FB030F8}"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A96D-3CD9-41D4-860B-10B1A80FDA0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8F07-0518-43AF-B4CC-984FC09713DF}"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7816-E80C-4EF9-AF4C-38FEF166CAD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8598-3DD2-4052-B663-FB5E11B21129}"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A865-9653-4E50-93E5-B141B1404B9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6486-F90E-4F7F-896F-96FF54983933}"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EED0-202B-4C33-A35D-987AB29E2BC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710C-6A01-48CC-A622-5BC2E96CB92C}"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4E05-7072-46AE-AC52-0225E4C73B6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1B8-AFF3-47A5-9BB5-34E7E24B4B4B}"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8D29-D258-44BE-A127-05C6B8AD91E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CB48-838D-4022-A2D3-BC258BD7AE5D}" type="datetime">
              <a:rPr b="0" lang="en-ZA" sz="1000" spc="-1" strike="noStrike">
                <a:solidFill>
                  <a:srgbClr val="83725b"/>
                </a:solidFill>
                <a:latin typeface="Times New Roman"/>
              </a:rPr>
              <a:t>26-07-31</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9DA8-E3DE-4920-9E93-1CB685200E5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3058920" y="2460600"/>
            <a:ext cx="5545080" cy="1487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6"/>
                </a:solidFill>
                <a:latin typeface="Arial"/>
              </a:rPr>
              <a:t>CLARIFICATION MEETING </a:t>
            </a:r>
            <a:br>
              <a:rPr sz="3200"/>
            </a:br>
            <a:r>
              <a:rPr b="1" lang="en-US" sz="3200" spc="-1" strike="noStrike">
                <a:solidFill>
                  <a:srgbClr val="003896"/>
                </a:solidFill>
                <a:latin typeface="Arial"/>
              </a:rPr>
              <a:t>KLIPSPRUIT PROJECT</a:t>
            </a:r>
            <a:endParaRPr b="0" lang="en-US" sz="3200" spc="-1" strike="noStrike">
              <a:solidFill>
                <a:srgbClr val="ffffff"/>
              </a:solidFill>
              <a:latin typeface="Arial"/>
            </a:endParaRPr>
          </a:p>
        </p:txBody>
      </p:sp>
      <p:sp>
        <p:nvSpPr>
          <p:cNvPr id="656"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Date:</a:t>
            </a:r>
            <a:r>
              <a:rPr b="0" lang="en-US" sz="1800" spc="-1" strike="noStrike">
                <a:solidFill>
                  <a:srgbClr val="83725b"/>
                </a:solidFill>
                <a:latin typeface="Arial"/>
              </a:rPr>
              <a:t>	</a:t>
            </a:r>
            <a:r>
              <a:rPr b="0" lang="en-US" sz="1800" spc="-1" strike="noStrike">
                <a:solidFill>
                  <a:srgbClr val="83725b"/>
                </a:solidFill>
                <a:latin typeface="Arial"/>
              </a:rPr>
              <a:t>29 March 2022</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Venue: </a:t>
            </a:r>
            <a:r>
              <a:rPr b="0" lang="en-US" sz="1800" spc="-1" strike="noStrike">
                <a:solidFill>
                  <a:srgbClr val="83725b"/>
                </a:solidFill>
                <a:latin typeface="Arial"/>
              </a:rPr>
              <a:t>	</a:t>
            </a:r>
            <a:r>
              <a:rPr b="0" lang="en-US" sz="1800" spc="-1" strike="noStrike">
                <a:solidFill>
                  <a:srgbClr val="83725b"/>
                </a:solidFill>
                <a:latin typeface="Arial"/>
              </a:rPr>
              <a:t> Microsoft Teams</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Time: </a:t>
            </a:r>
            <a:r>
              <a:rPr b="0" lang="en-US" sz="1800" spc="-1" strike="noStrike">
                <a:solidFill>
                  <a:srgbClr val="83725b"/>
                </a:solidFill>
                <a:latin typeface="Arial"/>
              </a:rPr>
              <a:t>	</a:t>
            </a:r>
            <a:r>
              <a:rPr b="0" lang="en-US" sz="1800" spc="-1" strike="noStrike">
                <a:solidFill>
                  <a:srgbClr val="83725b"/>
                </a:solidFill>
                <a:latin typeface="Arial"/>
              </a:rPr>
              <a:t>10:00</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Presented By: Lungile Mathetha</a:t>
            </a:r>
            <a:endParaRPr b="0" lang="en-US" sz="1800" spc="-1" strike="noStrike">
              <a:solidFill>
                <a:srgbClr val="00389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1"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2  : FUNCTIONALITY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quirements can be found in the Technical Folder – Folder 2 on the Eskom Tender Portal</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 is a threshold of </a:t>
            </a:r>
            <a:r>
              <a:rPr b="0" lang="en-US" sz="2000" spc="-1" strike="noStrike" u="sng">
                <a:solidFill>
                  <a:srgbClr val="ff0000"/>
                </a:solidFill>
                <a:uFillTx/>
                <a:latin typeface="Arial"/>
              </a:rPr>
              <a:t>75% required </a:t>
            </a:r>
            <a:r>
              <a:rPr b="0" lang="en-US" sz="2000" spc="-1" strike="noStrike">
                <a:solidFill>
                  <a:srgbClr val="003896"/>
                </a:solidFill>
                <a:latin typeface="Arial"/>
              </a:rPr>
              <a:t>in order to be deemed compliant in terms of functionality to proceed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ho do not meet the </a:t>
            </a:r>
            <a:r>
              <a:rPr b="0" lang="en-US" sz="2000" spc="-1" strike="noStrike" u="sng">
                <a:solidFill>
                  <a:srgbClr val="ff0000"/>
                </a:solidFill>
                <a:uFillTx/>
                <a:latin typeface="Arial"/>
              </a:rPr>
              <a:t>75% threshold </a:t>
            </a:r>
            <a:r>
              <a:rPr b="0" lang="en-US" sz="2000" spc="-1" strike="noStrike">
                <a:solidFill>
                  <a:srgbClr val="003896"/>
                </a:solidFill>
                <a:latin typeface="Arial"/>
              </a:rPr>
              <a:t>will be disqualified at this point and will not move on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Technical Representative will go through the requirements now</a:t>
            </a:r>
            <a:endParaRPr b="0" lang="en-US" sz="2000" spc="-1" strike="noStrike">
              <a:solidFill>
                <a:srgbClr val="003896"/>
              </a:solidFill>
              <a:latin typeface="Arial"/>
            </a:endParaRPr>
          </a:p>
        </p:txBody>
      </p:sp>
      <p:sp>
        <p:nvSpPr>
          <p:cNvPr id="69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8811-B72C-4061-B54C-7B7316F74FC7}"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3464-84E9-4493-844B-AEE4E214060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5" name=""/>
          <p:cNvSpPr txBox="1"/>
          <p:nvPr/>
        </p:nvSpPr>
        <p:spPr>
          <a:xfrm>
            <a:off x="436680" y="1197000"/>
            <a:ext cx="8378640" cy="52848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2 REQUIREMENTS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3: RANKING OF THE SUPPLIERS</a:t>
            </a:r>
            <a:endParaRPr b="0" lang="en-US" sz="4000" spc="-1" strike="noStrike">
              <a:solidFill>
                <a:srgbClr val="003896"/>
              </a:solidFill>
              <a:latin typeface="Arial"/>
            </a:endParaRPr>
          </a:p>
        </p:txBody>
      </p:sp>
      <p:sp>
        <p:nvSpPr>
          <p:cNvPr id="69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62F3-453E-45CE-B23B-0599EC2B94C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9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1E09-4C5A-481B-BBB5-8E3CD2FBB7F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9" name=""/>
          <p:cNvSpPr txBox="1"/>
          <p:nvPr/>
        </p:nvSpPr>
        <p:spPr>
          <a:xfrm>
            <a:off x="436680" y="1197000"/>
            <a:ext cx="8378640" cy="52848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3: RANKING OF THE SUPPLI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As per Item 3.4 and 3.5 on page 10 of the invitation:</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ill be ranked by applying the preferential point scoring based on the:</a:t>
            </a:r>
            <a:r>
              <a:rPr b="0" lang="en-ZA" sz="2000" spc="-1" strike="noStrike">
                <a:solidFill>
                  <a:srgbClr val="003896"/>
                </a:solidFill>
                <a:latin typeface="Arial"/>
              </a:rPr>
              <a:t>  </a:t>
            </a:r>
            <a:r>
              <a:rPr b="0" lang="en-US" sz="2000" spc="-1" strike="noStrike">
                <a:solidFill>
                  <a:srgbClr val="003896"/>
                </a:solidFill>
                <a:latin typeface="Arial"/>
              </a:rPr>
              <a:t>80/20 principl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will then add the score from Pricing and the B-BBEE level together and rank the suppliers from the highest to the lowest. </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the top Supplier after being ranked in terms of the 80/20  PPPFA preferential point scoring will continue to the next stage of being evaluated for compliance to the contractual obligation.</a:t>
            </a:r>
            <a:endParaRPr b="0" lang="en-US" sz="2000" spc="-1" strike="noStrike">
              <a:solidFill>
                <a:srgbClr val="003896"/>
              </a:solidFill>
              <a:latin typeface="Arial"/>
            </a:endParaRPr>
          </a:p>
        </p:txBody>
      </p:sp>
      <p:sp>
        <p:nvSpPr>
          <p:cNvPr id="70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F26D-1806-440C-8F6E-99917E1D129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195D-3460-43F4-AA1E-AC10A80AFB7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3"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THE TOP RANKED COMPANY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4: Contractual Obligation EVALUATION</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p:txBody>
      </p:sp>
      <p:sp>
        <p:nvSpPr>
          <p:cNvPr id="70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051A-7FB0-4C8A-A8DE-76786538192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67DF-830C-455A-B1C3-B688CBB6439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7"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ollowing contractual obligation app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afety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vironment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uality Requirements; and</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D and L Requirement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Representatives will go through each requirements individually</a:t>
            </a:r>
            <a:endParaRPr b="0" lang="en-US" sz="2000" spc="-1" strike="noStrike">
              <a:solidFill>
                <a:srgbClr val="003896"/>
              </a:solidFill>
              <a:latin typeface="Arial"/>
            </a:endParaRPr>
          </a:p>
        </p:txBody>
      </p:sp>
      <p:sp>
        <p:nvSpPr>
          <p:cNvPr id="70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7DC4-3E5C-40E1-BDB7-CD8841E96035}"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0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9E92-1D80-40A3-BF1A-FD8F2421CAC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11" name=""/>
          <p:cNvSpPr txBox="1"/>
          <p:nvPr/>
        </p:nvSpPr>
        <p:spPr>
          <a:xfrm>
            <a:off x="436680" y="1052280"/>
            <a:ext cx="8378640" cy="542916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HIS IS VERY IMPORTANT TO NOTE:</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is is </a:t>
            </a:r>
            <a:r>
              <a:rPr b="1" lang="en-US" sz="1800" spc="-1" strike="noStrike" u="sng">
                <a:solidFill>
                  <a:srgbClr val="ff0000"/>
                </a:solidFill>
                <a:uFillTx/>
                <a:latin typeface="Arial"/>
              </a:rPr>
              <a:t>NOT</a:t>
            </a:r>
            <a:r>
              <a:rPr b="1" lang="en-US" sz="1800" spc="-1" strike="noStrike" u="sng">
                <a:solidFill>
                  <a:srgbClr val="003896"/>
                </a:solidFill>
                <a:uFillTx/>
                <a:latin typeface="Arial"/>
              </a:rPr>
              <a:t> </a:t>
            </a:r>
            <a:r>
              <a:rPr b="0" lang="en-US" sz="1800" spc="-1" strike="noStrike">
                <a:solidFill>
                  <a:srgbClr val="003896"/>
                </a:solidFill>
                <a:latin typeface="Arial"/>
              </a:rPr>
              <a:t>a development contract. Therefore the top  supplier identified in terms of the 80/20 PPPFA preferential point scoring will be evaluated for contractual obligation. Should the supplier not meet the requirement at tender stage they will be given only </a:t>
            </a:r>
            <a:r>
              <a:rPr b="1" lang="en-US" sz="1800" spc="-1" strike="noStrike" u="sng">
                <a:solidFill>
                  <a:srgbClr val="ff0000"/>
                </a:solidFill>
                <a:uFillTx/>
                <a:latin typeface="Arial"/>
              </a:rPr>
              <a:t>1</a:t>
            </a:r>
            <a:r>
              <a:rPr b="1" lang="en-US" sz="1800" spc="-1" strike="noStrike">
                <a:solidFill>
                  <a:srgbClr val="ff0000"/>
                </a:solidFill>
                <a:latin typeface="Arial"/>
              </a:rPr>
              <a:t> </a:t>
            </a:r>
            <a:r>
              <a:rPr b="0" lang="en-US" sz="1800" spc="-1" strike="noStrike">
                <a:solidFill>
                  <a:srgbClr val="003896"/>
                </a:solidFill>
                <a:latin typeface="Arial"/>
              </a:rPr>
              <a:t>opportunity to submit the outstanding requirements. </a:t>
            </a:r>
            <a:endParaRPr b="0" lang="en-US" sz="1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0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hould the suppliers still not satisfy the requirement they will then be </a:t>
            </a:r>
            <a:r>
              <a:rPr b="1" lang="en-US" sz="1800" spc="-1" strike="noStrike" u="sng">
                <a:solidFill>
                  <a:srgbClr val="ff0000"/>
                </a:solidFill>
                <a:uFillTx/>
                <a:latin typeface="Arial"/>
              </a:rPr>
              <a:t>DISQUALIFIED</a:t>
            </a:r>
            <a:r>
              <a:rPr b="0" lang="en-US" sz="1800" spc="-1" strike="noStrike">
                <a:solidFill>
                  <a:srgbClr val="003896"/>
                </a:solidFill>
                <a:latin typeface="Arial"/>
              </a:rPr>
              <a:t> and the next supplier in terms of the 80/20 PPPFA preferential point scoring will be selected to take part in this enquiry.</a:t>
            </a:r>
            <a:endParaRPr b="0" lang="en-US" sz="1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US" sz="1800" spc="-1" strike="noStrike">
                <a:solidFill>
                  <a:srgbClr val="003896"/>
                </a:solidFill>
                <a:latin typeface="Arial"/>
              </a:rPr>
              <a:t>You will only be given 1 opportunity to submit the outstanding requirement and even if you mistakenly omit 1 of the requirements or don’t pass the requirement for any reason you </a:t>
            </a:r>
            <a:r>
              <a:rPr b="1" lang="en-US" sz="1800" spc="-1" strike="noStrike" u="sng">
                <a:solidFill>
                  <a:srgbClr val="ff0000"/>
                </a:solidFill>
                <a:uFillTx/>
                <a:latin typeface="Arial"/>
              </a:rPr>
              <a:t>WILL NOT</a:t>
            </a:r>
            <a:r>
              <a:rPr b="1" lang="en-US" sz="1800" spc="-1" strike="noStrike" u="sng">
                <a:solidFill>
                  <a:srgbClr val="003896"/>
                </a:solidFill>
                <a:uFillTx/>
                <a:latin typeface="Arial"/>
              </a:rPr>
              <a:t> </a:t>
            </a:r>
            <a:r>
              <a:rPr b="0" lang="en-US" sz="1800" spc="-1" strike="noStrike">
                <a:solidFill>
                  <a:srgbClr val="003896"/>
                </a:solidFill>
                <a:latin typeface="Arial"/>
              </a:rPr>
              <a:t>be given an opportunity to correct the error. Your submission will be disqualified</a:t>
            </a:r>
            <a:endParaRPr b="0" lang="en-US" sz="1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endParaRPr b="0" lang="en-US" sz="2000" spc="-1" strike="noStrike">
              <a:solidFill>
                <a:srgbClr val="003896"/>
              </a:solidFill>
              <a:latin typeface="Arial"/>
            </a:endParaRPr>
          </a:p>
        </p:txBody>
      </p:sp>
      <p:sp>
        <p:nvSpPr>
          <p:cNvPr id="71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8C03-A342-4AB8-9C69-CACF3B61D7B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6BB9-9B79-4D5C-8012-91C0C4FE6CE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BF5E-EC6B-427F-9684-B0785C637852}"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7D75-C990-4541-BC95-A952866F42A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16" name="PlaceHolder 1"/>
          <p:cNvSpPr>
            <a:spLocks noGrp="1"/>
          </p:cNvSpPr>
          <p:nvPr>
            <p:ph type="title"/>
          </p:nvPr>
        </p:nvSpPr>
        <p:spPr>
          <a:xfrm>
            <a:off x="107640" y="142920"/>
            <a:ext cx="651996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and Safety File for successful supplier</a:t>
            </a:r>
            <a:endParaRPr b="0" lang="en-US" sz="2400" spc="-1" strike="noStrike">
              <a:solidFill>
                <a:srgbClr val="ffffff"/>
              </a:solidFill>
              <a:latin typeface="Arial"/>
            </a:endParaRPr>
          </a:p>
        </p:txBody>
      </p:sp>
      <p:sp>
        <p:nvSpPr>
          <p:cNvPr id="717" name="Rectangle 3"/>
          <p:cNvSpPr/>
          <p:nvPr/>
        </p:nvSpPr>
        <p:spPr>
          <a:xfrm>
            <a:off x="250920" y="1197000"/>
            <a:ext cx="8137440" cy="4392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to be noted that the successful supplier will be required to submit a safety file for the scope of work complete with medicals, certificates and appointment letters for the employees of the company that will be executing the work.</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once this safety file has been evaluated and passed may the supplier commence work</a:t>
            </a:r>
            <a:endParaRPr b="0" lang="en-US" sz="2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913B-B9D0-4DEE-9251-77B4FB97E5DA}"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1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FBA2-DC1E-4F27-B0F1-C4419AFC730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20" name="PlaceHolder 1"/>
          <p:cNvSpPr>
            <a:spLocks noGrp="1"/>
          </p:cNvSpPr>
          <p:nvPr>
            <p:ph type="title"/>
          </p:nvPr>
        </p:nvSpPr>
        <p:spPr>
          <a:xfrm>
            <a:off x="107640" y="142920"/>
            <a:ext cx="651996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in terms of completeing the tender</a:t>
            </a:r>
            <a:endParaRPr b="0" lang="en-US" sz="2400" spc="-1" strike="noStrike">
              <a:solidFill>
                <a:srgbClr val="ffffff"/>
              </a:solidFill>
              <a:latin typeface="Arial"/>
            </a:endParaRPr>
          </a:p>
        </p:txBody>
      </p:sp>
      <p:sp>
        <p:nvSpPr>
          <p:cNvPr id="721" name="Rectangle 3"/>
          <p:cNvSpPr/>
          <p:nvPr/>
        </p:nvSpPr>
        <p:spPr>
          <a:xfrm>
            <a:off x="250920" y="1197000"/>
            <a:ext cx="81374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 </a:t>
            </a:r>
            <a:r>
              <a:rPr b="0" lang="en-US" sz="2000" spc="-1" strike="noStrike" u="sng">
                <a:solidFill>
                  <a:srgbClr val="003896"/>
                </a:solidFill>
                <a:uFillTx/>
                <a:latin typeface="Arial"/>
              </a:rPr>
              <a:t>correction fluid</a:t>
            </a:r>
            <a:r>
              <a:rPr b="0" lang="en-US" sz="2000" spc="-1" strike="noStrike">
                <a:solidFill>
                  <a:srgbClr val="003896"/>
                </a:solidFill>
                <a:latin typeface="Arial"/>
              </a:rPr>
              <a:t> to be used on the enquiry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pages must be </a:t>
            </a:r>
            <a:r>
              <a:rPr b="0" lang="en-US" sz="2000" spc="-1" strike="noStrike" u="sng">
                <a:solidFill>
                  <a:srgbClr val="003896"/>
                </a:solidFill>
                <a:uFillTx/>
                <a:latin typeface="Arial"/>
              </a:rPr>
              <a:t>initial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ertificates submitted must be </a:t>
            </a:r>
            <a:r>
              <a:rPr b="0" lang="en-US" sz="2000" spc="-1" strike="noStrike" u="sng">
                <a:solidFill>
                  <a:srgbClr val="003896"/>
                </a:solidFill>
                <a:uFillTx/>
                <a:latin typeface="Arial"/>
              </a:rPr>
              <a:t>valid</a:t>
            </a:r>
            <a:r>
              <a:rPr b="0" lang="en-US" sz="2000" spc="-1" strike="noStrike">
                <a:solidFill>
                  <a:srgbClr val="003896"/>
                </a:solidFill>
                <a:latin typeface="Arial"/>
              </a:rPr>
              <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ust be </a:t>
            </a:r>
            <a:r>
              <a:rPr b="0" lang="en-US" sz="2000" spc="-1" strike="noStrike" u="sng">
                <a:solidFill>
                  <a:srgbClr val="003896"/>
                </a:solidFill>
                <a:uFillTx/>
                <a:latin typeface="Arial"/>
              </a:rPr>
              <a:t>tamper proof</a:t>
            </a:r>
            <a:r>
              <a:rPr b="0" lang="en-US" sz="2000" spc="-1" strike="noStrike">
                <a:solidFill>
                  <a:srgbClr val="003896"/>
                </a:solidFill>
                <a:latin typeface="Arial"/>
              </a:rPr>
              <a:t> and </a:t>
            </a:r>
            <a:r>
              <a:rPr b="0" lang="en-US" sz="2000" spc="-1" strike="noStrike" u="sng">
                <a:solidFill>
                  <a:srgbClr val="003896"/>
                </a:solidFill>
                <a:uFillTx/>
                <a:latin typeface="Arial"/>
              </a:rPr>
              <a:t>secu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queries to be addressed to the Buyer in writing. No telephone calls will be accepted for queries regarding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time for all queries is </a:t>
            </a:r>
            <a:r>
              <a:rPr b="1" lang="en-US" sz="2000" spc="-1" strike="noStrike">
                <a:solidFill>
                  <a:srgbClr val="003896"/>
                </a:solidFill>
                <a:latin typeface="Arial"/>
              </a:rPr>
              <a:t>5 days </a:t>
            </a:r>
            <a:r>
              <a:rPr b="0" lang="en-US" sz="2000" spc="-1" strike="noStrike">
                <a:solidFill>
                  <a:srgbClr val="003896"/>
                </a:solidFill>
                <a:latin typeface="Arial"/>
              </a:rPr>
              <a:t>prior to tender Closing Date</a:t>
            </a:r>
            <a:endParaRPr b="0" lang="en-US" sz="20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2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2B62-B455-4624-BD37-B88D28E1015C}"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2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6384-FC21-4C42-875E-541B04E96BD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5"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26" name="Picture 3" descr=""/>
          <p:cNvPicPr/>
          <p:nvPr/>
        </p:nvPicPr>
        <p:blipFill>
          <a:blip r:embed="rId2"/>
          <a:srcRect l="15775" t="9409" r="8589" b="0"/>
          <a:stretch/>
        </p:blipFill>
        <p:spPr>
          <a:xfrm>
            <a:off x="5818320" y="2781360"/>
            <a:ext cx="2276280" cy="2044800"/>
          </a:xfrm>
          <a:prstGeom prst="rect">
            <a:avLst/>
          </a:prstGeom>
          <a:ln w="0">
            <a:noFill/>
          </a:ln>
        </p:spPr>
      </p:pic>
      <p:sp>
        <p:nvSpPr>
          <p:cNvPr id="727" name="Rounded Rectangular Callout 13"/>
          <p:cNvSpPr/>
          <p:nvPr/>
        </p:nvSpPr>
        <p:spPr>
          <a:xfrm>
            <a:off x="2847960" y="3584520"/>
            <a:ext cx="1995480" cy="200520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28" name="Picture 3" descr=""/>
          <p:cNvPicPr/>
          <p:nvPr/>
        </p:nvPicPr>
        <p:blipFill>
          <a:blip r:embed="rId3"/>
          <a:stretch/>
        </p:blipFill>
        <p:spPr>
          <a:xfrm>
            <a:off x="4149720" y="861840"/>
            <a:ext cx="3959280" cy="3256200"/>
          </a:xfrm>
          <a:prstGeom prst="rect">
            <a:avLst/>
          </a:prstGeom>
          <a:ln w="0">
            <a:noFill/>
          </a:ln>
        </p:spPr>
      </p:pic>
      <p:sp>
        <p:nvSpPr>
          <p:cNvPr id="729"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binding during the stamping and handle process</a:t>
            </a:r>
            <a:endParaRPr b="0" lang="en-US" sz="18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3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52E8-A64A-471B-B388-9FD86EC2937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3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AA5E-01C9-44B6-B71D-C68761D5948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33" name="Picture 3" descr=""/>
          <p:cNvPicPr/>
          <p:nvPr/>
        </p:nvPicPr>
        <p:blipFill>
          <a:blip r:embed="rId1"/>
          <a:stretch/>
        </p:blipFill>
        <p:spPr>
          <a:xfrm>
            <a:off x="3564000" y="1197000"/>
            <a:ext cx="2884320" cy="2163600"/>
          </a:xfrm>
          <a:prstGeom prst="rect">
            <a:avLst/>
          </a:prstGeom>
          <a:ln w="0">
            <a:noFill/>
          </a:ln>
        </p:spPr>
      </p:pic>
      <p:pic>
        <p:nvPicPr>
          <p:cNvPr id="734"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35"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36" name="Picture 3" descr=""/>
          <p:cNvPicPr/>
          <p:nvPr/>
        </p:nvPicPr>
        <p:blipFill>
          <a:blip r:embed="rId3"/>
          <a:stretch/>
        </p:blipFill>
        <p:spPr>
          <a:xfrm>
            <a:off x="4419720" y="1197000"/>
            <a:ext cx="4081320" cy="3354480"/>
          </a:xfrm>
          <a:prstGeom prst="rect">
            <a:avLst/>
          </a:prstGeom>
          <a:ln w="0">
            <a:noFill/>
          </a:ln>
        </p:spPr>
      </p:pic>
      <p:sp>
        <p:nvSpPr>
          <p:cNvPr id="737"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 Document is not tamper proof</a:t>
            </a: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rs pose a safety risk when handling tender documents</a:t>
            </a:r>
            <a:endParaRPr b="0" lang="en-US" sz="2000" spc="-1" strike="noStrike">
              <a:solidFill>
                <a:srgbClr val="003896"/>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7DA4-264C-4BCD-B0F3-0E682327880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5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6EF6-86A8-4BDD-B949-DD68A0F95FC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Arial"/>
              </a:rPr>
              <a:t>Eskom Values (ZIISCE) / Izimiso Ka-Eskom</a:t>
            </a:r>
            <a:endParaRPr b="0" lang="en-US" sz="2400" spc="-1" strike="noStrike">
              <a:solidFill>
                <a:srgbClr val="ffffff"/>
              </a:solidFill>
              <a:latin typeface="Arial"/>
            </a:endParaRPr>
          </a:p>
        </p:txBody>
      </p:sp>
      <p:graphicFrame>
        <p:nvGraphicFramePr>
          <p:cNvPr id="660" name=""/>
          <p:cNvGraphicFramePr/>
          <p:nvPr/>
        </p:nvGraphicFramePr>
        <p:xfrm>
          <a:off x="223920" y="1268280"/>
          <a:ext cx="4335480" cy="4843440"/>
        </p:xfrm>
        <a:graphic>
          <a:graphicData uri="http://schemas.openxmlformats.org/drawingml/2006/table">
            <a:tbl>
              <a:tblPr/>
              <a:tblGrid>
                <a:gridCol w="1311120"/>
                <a:gridCol w="3024360"/>
              </a:tblGrid>
              <a:tr h="441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36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Eskom will strive to ensure that zero harm befalls its employees, contractors, the public and the natural environment.</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TEGRITY</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onesty of purpose, conduct and discipline in actions, and respect for peopl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5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NOVA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Value-adding creativity and results oriented. Lead through excellence in innovation.</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Caring.</a:t>
                      </a: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CUSTOMER SATISFAC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 commitment to meet and strive to exceed the needs of the receivers of products and services.</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XCELLENC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cknowledged by all for exceptional standards, performance and professionalism.</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graphicFrame>
        <p:nvGraphicFramePr>
          <p:cNvPr id="661" name=""/>
          <p:cNvGraphicFramePr/>
          <p:nvPr/>
        </p:nvGraphicFramePr>
        <p:xfrm>
          <a:off x="4673520" y="1268280"/>
          <a:ext cx="4248360" cy="4843440"/>
        </p:xfrm>
        <a:graphic>
          <a:graphicData uri="http://schemas.openxmlformats.org/drawingml/2006/table">
            <a:tbl>
              <a:tblPr/>
              <a:tblGrid>
                <a:gridCol w="1511280"/>
                <a:gridCol w="2737080"/>
              </a:tblGrid>
              <a:tr h="335160">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IMISO</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HO UKUTHINI</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551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Eskom uzoqhubeka nokulwela ukuqinisekisa ukuthi ukuphepha okupheleleyo lapho kwenziwa umsebenzi (Zero Harm) kuba yisikompilo kubasebenzi benkampani, osonkontilaki, umphakathi kanye nokunakekelwa kwemvelo yonkana.</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BUQOTHO</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enza izinto ngokungaguquki, ngendlela ekhuthaza ukwethenjelwa nokuzibophezela.</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KHONO LOKUQAMBA</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akha isimiso esivumela ukukhula kwabantu abanamakhono.</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Ukuqhakambisa umusa nozwelo komunye nomuny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KWANELISEKA KWAMAKHASIM-END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zibophezela ukwenzela amakha-simende umsebenzi omuhle ngokuvelele nangokudlulel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UBUHLE OBUVELEL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qhubeka ukulwela ukuba ngophuma phambili ngokusebenza ngendlela evelele nefaneleyo.</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3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EDC3-D6D6-43E3-9A87-8481B259CB9B}"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99A0-66CF-4864-9004-5A558C636F3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41" name="Picture 8" descr=""/>
          <p:cNvPicPr/>
          <p:nvPr/>
        </p:nvPicPr>
        <p:blipFill>
          <a:blip r:embed="rId1"/>
          <a:stretch/>
        </p:blipFill>
        <p:spPr>
          <a:xfrm>
            <a:off x="457200" y="1793880"/>
            <a:ext cx="3095640" cy="3095640"/>
          </a:xfrm>
          <a:prstGeom prst="rect">
            <a:avLst/>
          </a:prstGeom>
          <a:ln w="0">
            <a:noFill/>
          </a:ln>
        </p:spPr>
      </p:pic>
      <p:pic>
        <p:nvPicPr>
          <p:cNvPr id="742" name="Picture 4" descr=""/>
          <p:cNvPicPr/>
          <p:nvPr/>
        </p:nvPicPr>
        <p:blipFill>
          <a:blip r:embed="rId2"/>
          <a:stretch/>
        </p:blipFill>
        <p:spPr>
          <a:xfrm>
            <a:off x="6173640" y="1979640"/>
            <a:ext cx="2590920" cy="1920960"/>
          </a:xfrm>
          <a:prstGeom prst="rect">
            <a:avLst/>
          </a:prstGeom>
          <a:ln w="0">
            <a:noFill/>
          </a:ln>
        </p:spPr>
      </p:pic>
      <p:pic>
        <p:nvPicPr>
          <p:cNvPr id="743" name="Picture 2" descr=""/>
          <p:cNvPicPr/>
          <p:nvPr/>
        </p:nvPicPr>
        <p:blipFill>
          <a:blip r:embed="rId3"/>
          <a:stretch/>
        </p:blipFill>
        <p:spPr>
          <a:xfrm rot="1370400">
            <a:off x="3746520" y="2815920"/>
            <a:ext cx="4844880" cy="2894040"/>
          </a:xfrm>
          <a:prstGeom prst="rect">
            <a:avLst/>
          </a:prstGeom>
          <a:ln w="0">
            <a:noFill/>
          </a:ln>
        </p:spPr>
      </p:pic>
      <p:sp>
        <p:nvSpPr>
          <p:cNvPr id="744"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46" name=""/>
          <p:cNvSpPr txBox="1"/>
          <p:nvPr/>
        </p:nvSpPr>
        <p:spPr>
          <a:xfrm>
            <a:off x="526680" y="1125000"/>
            <a:ext cx="786132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ors must ensur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amper proof  and that no pages can be removed or added during the evaluation and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is smooth and effici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ay be stapled or the use of file fasteners maybe used and then sealed with the binding tape to ensure that the document is safe to handle as well as tamper proof</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4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3066-379A-4BC4-8A5B-BD79B52EC394}"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4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A0E3-A1DE-4603-BB68-3BBD44F5A0C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 Management for Suppliers with no vendor numbers</a:t>
            </a:r>
            <a:endParaRPr b="0" lang="en-US" sz="2400" spc="-1" strike="noStrike">
              <a:solidFill>
                <a:srgbClr val="ffffff"/>
              </a:solidFill>
              <a:latin typeface="Arial"/>
            </a:endParaRPr>
          </a:p>
        </p:txBody>
      </p:sp>
      <p:sp>
        <p:nvSpPr>
          <p:cNvPr id="750" name=""/>
          <p:cNvSpPr txBox="1"/>
          <p:nvPr/>
        </p:nvSpPr>
        <p:spPr>
          <a:xfrm>
            <a:off x="178920" y="1197000"/>
            <a:ext cx="837900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Vendor Management (For companies with no vendor number) evaluations will still need to be done prior to the company being able to sign a contract. Only all the required evaluations are done and passed successfully will the company be able to sign contracts and legible to receive wor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B2A7-73F9-4A2D-8933-9B4101DA7EEA}"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5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9FC1-9BF9-48B9-8820-684C54EA3C5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F946-C5A0-4413-ADC3-ABD6ECB6F1D9}"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54"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708C-B180-4004-BA2F-6B2E1A35891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a:t>
            </a:r>
            <a:endParaRPr b="0" lang="en-US" sz="2400" spc="-1" strike="noStrike">
              <a:solidFill>
                <a:srgbClr val="ffffff"/>
              </a:solidFill>
              <a:latin typeface="Arial"/>
            </a:endParaRPr>
          </a:p>
        </p:txBody>
      </p:sp>
      <p:sp>
        <p:nvSpPr>
          <p:cNvPr id="756" name="Rectangle 3"/>
          <p:cNvSpPr/>
          <p:nvPr/>
        </p:nvSpPr>
        <p:spPr>
          <a:xfrm>
            <a:off x="324000" y="1197000"/>
            <a:ext cx="83516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the technical file on the Eskom Tender Portal for requirements</a:t>
            </a:r>
            <a:endParaRPr b="0" lang="en-US" sz="2000" spc="-1" strike="noStrike">
              <a:solidFill>
                <a:srgbClr val="003896"/>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Questions</a:t>
            </a:r>
            <a:endParaRPr b="0" lang="en-US" sz="2400" spc="-1" strike="noStrike">
              <a:solidFill>
                <a:srgbClr val="ffffff"/>
              </a:solidFill>
              <a:latin typeface="Arial"/>
            </a:endParaRPr>
          </a:p>
        </p:txBody>
      </p:sp>
      <p:sp>
        <p:nvSpPr>
          <p:cNvPr id="758"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are encouraged to submit their tender documents before the closing date and not wait to submit on the day of tender closing</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not a compulsory meeting and therefore companies not at the clarification meeting are permitted to submit tend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7B0B-944C-4B9E-8047-86D4A0A06AA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76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1BFD-2801-487A-B94A-08110219115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62" name="Picture 56" descr=""/>
          <p:cNvPicPr/>
          <p:nvPr/>
        </p:nvPicPr>
        <p:blipFill>
          <a:blip r:embed="rId2"/>
          <a:stretch/>
        </p:blipFill>
        <p:spPr>
          <a:xfrm>
            <a:off x="5435640" y="6213600"/>
            <a:ext cx="3197160" cy="314280"/>
          </a:xfrm>
          <a:prstGeom prst="rect">
            <a:avLst/>
          </a:prstGeom>
          <a:ln w="0">
            <a:noFill/>
          </a:ln>
        </p:spPr>
      </p:pic>
      <p:sp>
        <p:nvSpPr>
          <p:cNvPr id="763"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AGENDA</a:t>
            </a:r>
            <a:endParaRPr b="0" lang="en-US" sz="3200" spc="-1" strike="noStrike">
              <a:solidFill>
                <a:srgbClr val="ffffff"/>
              </a:solidFill>
              <a:latin typeface="Arial"/>
            </a:endParaRPr>
          </a:p>
        </p:txBody>
      </p:sp>
      <p:graphicFrame>
        <p:nvGraphicFramePr>
          <p:cNvPr id="663" name=""/>
          <p:cNvGraphicFramePr/>
          <p:nvPr/>
        </p:nvGraphicFramePr>
        <p:xfrm>
          <a:off x="179280" y="1030320"/>
          <a:ext cx="8209080" cy="5456160"/>
        </p:xfrm>
        <a:graphic>
          <a:graphicData uri="http://schemas.openxmlformats.org/drawingml/2006/table">
            <a:tbl>
              <a:tblPr/>
              <a:tblGrid>
                <a:gridCol w="3456000"/>
                <a:gridCol w="3175200"/>
                <a:gridCol w="1577880"/>
              </a:tblGrid>
              <a:tr h="53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Presenter</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ime</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Opening and Welcome</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Lungile Matheth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53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Scope of Work</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anda Makhath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98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D&amp;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Derna Edmund</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6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Commercia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Lungile Matheth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echnical Criteri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handa Makhath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3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Environmental</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fiso Ntombela</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Quali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Nakho Xulu</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53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Safe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Nondu Dlamini</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15 Mins</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3640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General – Question and Answer session</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
        <p:nvSpPr>
          <p:cNvPr id="66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603A-7B4B-43A6-8EE4-E65FED72C473}"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3148-2D20-46D9-98A5-09240C9B190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98C2-1B88-45C1-9170-64D3C04D99D5}"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6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ABC3-8E0C-4112-8BD7-82E5D4AF428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9" name="Rectangle 3"/>
          <p:cNvSpPr/>
          <p:nvPr/>
        </p:nvSpPr>
        <p:spPr>
          <a:xfrm>
            <a:off x="250920" y="1197000"/>
            <a:ext cx="83534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on the requirements for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 to explain the implications of the evaluation process and the evaluation phases which the tender will be subject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with how to compile the tender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t>
            </a:r>
            <a:r>
              <a:rPr b="1" lang="en-US" sz="2000" spc="-1" strike="noStrike" u="sng">
                <a:solidFill>
                  <a:srgbClr val="003896"/>
                </a:solidFill>
                <a:uFillTx/>
                <a:latin typeface="Arial"/>
              </a:rPr>
              <a:t>NOT</a:t>
            </a:r>
            <a:r>
              <a:rPr b="0" lang="en-US" sz="2000" spc="-1" strike="noStrike">
                <a:solidFill>
                  <a:srgbClr val="003896"/>
                </a:solidFill>
                <a:latin typeface="Arial"/>
              </a:rPr>
              <a:t> a compulsory clarification meeting</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larifications and questions with answers will be published on the portal. No individual emails will be sent to the tendering companie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E0AC-6304-4898-A4BA-EDE7278B88CF}"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B10F-3232-4128-8434-0A311538C8C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Informa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73" name="Rectangle 3"/>
          <p:cNvSpPr/>
          <p:nvPr/>
        </p:nvSpPr>
        <p:spPr>
          <a:xfrm>
            <a:off x="108000" y="1197000"/>
            <a:ext cx="8569440" cy="5040360"/>
          </a:xfrm>
          <a:prstGeom prst="rect">
            <a:avLst/>
          </a:prstGeom>
          <a:noFill/>
          <a:ln w="0">
            <a:noFill/>
          </a:ln>
        </p:spPr>
        <p:style>
          <a:lnRef idx="0"/>
          <a:fillRef idx="0"/>
          <a:effectRef idx="0"/>
          <a:fontRef idx="minor"/>
        </p:style>
        <p:txBody>
          <a:bodyPr lIns="90000" rIns="90000" tIns="46800" bIns="46800" anchor="t">
            <a:normAutofit fontScale="96000"/>
          </a:bodyPr>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Enquiry Number: </a:t>
            </a:r>
            <a:r>
              <a:rPr b="0" lang="en-GB" sz="1800" spc="-1" strike="noStrike">
                <a:solidFill>
                  <a:srgbClr val="003896"/>
                </a:solidFill>
                <a:latin typeface="Arial"/>
              </a:rPr>
              <a:t>KZN006</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losing Date: 11 April 2022 at 10H00 AM</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ntract duration will be 8 months</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O LATE TENDERS WILL BE ACCEPTED</a:t>
            </a:r>
            <a:r>
              <a:rPr b="0" lang="en-US" sz="1800" spc="-1" strike="noStrike">
                <a:solidFill>
                  <a:srgbClr val="003896"/>
                </a:solidFill>
                <a:latin typeface="Arial"/>
              </a:rPr>
              <a:t>. Only tenders submitted at the correct closing location will be accepted. Refer to tender invitation</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US" sz="1800" spc="-1" strike="noStrike">
                <a:solidFill>
                  <a:srgbClr val="003896"/>
                </a:solidFill>
                <a:latin typeface="Arial"/>
              </a:rPr>
              <a:t>Tenderers must submitted as </a:t>
            </a:r>
            <a:r>
              <a:rPr b="1" lang="en-US" sz="1800" spc="-1" strike="noStrike" u="sng">
                <a:solidFill>
                  <a:srgbClr val="003896"/>
                </a:solidFill>
                <a:uFillTx/>
                <a:latin typeface="Arial"/>
              </a:rPr>
              <a:t>1 original and 1 identical copy </a:t>
            </a:r>
            <a:r>
              <a:rPr b="0" lang="en-US" sz="1800" spc="-1" strike="noStrike">
                <a:solidFill>
                  <a:srgbClr val="003896"/>
                </a:solidFill>
                <a:latin typeface="Arial"/>
              </a:rPr>
              <a:t>of the tender document</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he onus is upon the tenderer to ensure that their tender reach the Tender Office on or prior to the due date and time when making use of the post or courier services and to continuously check the tender bulletins of any addendums to the tender</a:t>
            </a:r>
            <a:endParaRPr b="0" lang="en-US" sz="1800" spc="-1" strike="noStrike">
              <a:solidFill>
                <a:srgbClr val="003896"/>
              </a:solidFill>
              <a:latin typeface="Arial"/>
            </a:endParaRPr>
          </a:p>
          <a:p>
            <a:pPr marL="255960" indent="-2559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1800" spc="-1" strike="noStrike">
                <a:solidFill>
                  <a:srgbClr val="003896"/>
                </a:solidFill>
                <a:latin typeface="Arial"/>
                <a:ea typeface="Calibri"/>
              </a:rPr>
              <a:t>The tenderer will notify the </a:t>
            </a:r>
            <a:r>
              <a:rPr b="0" i="1" lang="en-US" sz="1800" spc="-1" strike="noStrike">
                <a:solidFill>
                  <a:srgbClr val="003896"/>
                </a:solidFill>
                <a:latin typeface="Arial"/>
                <a:ea typeface="Calibri"/>
              </a:rPr>
              <a:t>Employer </a:t>
            </a:r>
            <a:r>
              <a:rPr b="0" lang="en-US" sz="1800" spc="-1" strike="noStrike">
                <a:solidFill>
                  <a:srgbClr val="003896"/>
                </a:solidFill>
                <a:latin typeface="Arial"/>
                <a:ea typeface="Calibri"/>
              </a:rPr>
              <a:t>of any clarifications required before the closing time for clarification queries, which is </a:t>
            </a:r>
            <a:r>
              <a:rPr b="1" lang="en-US" sz="1800" spc="-1" strike="noStrike">
                <a:solidFill>
                  <a:srgbClr val="003896"/>
                </a:solidFill>
                <a:latin typeface="Arial"/>
                <a:ea typeface="Calibri"/>
              </a:rPr>
              <a:t>5 </a:t>
            </a:r>
            <a:r>
              <a:rPr b="0" lang="en-US" sz="1800" spc="-1" strike="noStrike">
                <a:solidFill>
                  <a:srgbClr val="003896"/>
                </a:solidFill>
                <a:latin typeface="Arial"/>
                <a:ea typeface="Calibri"/>
              </a:rPr>
              <a:t>working days before the deadline for tender submission</a:t>
            </a:r>
            <a:endParaRPr b="0" lang="en-US" sz="1800" spc="-1" strike="noStrike">
              <a:solidFill>
                <a:srgbClr val="003896"/>
              </a:solidFill>
              <a:latin typeface="Arial"/>
            </a:endParaRPr>
          </a:p>
          <a:p>
            <a:pPr marL="255960" indent="-2559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55960" indent="-2559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26AF-D803-423B-AF8F-60F63CB97DB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7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D920-3D2D-4144-8C4F-163734D116D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Evaluation </a:t>
            </a:r>
            <a:endParaRPr b="0" lang="en-US" sz="2400" spc="-1" strike="noStrike">
              <a:solidFill>
                <a:srgbClr val="ffffff"/>
              </a:solidFill>
              <a:latin typeface="Arial"/>
            </a:endParaRPr>
          </a:p>
        </p:txBody>
      </p:sp>
      <p:pic>
        <p:nvPicPr>
          <p:cNvPr id="677" name="Diagram 1" descr=""/>
          <p:cNvPicPr/>
          <p:nvPr/>
        </p:nvPicPr>
        <p:blipFill>
          <a:blip r:embed="rId1"/>
          <a:stretch/>
        </p:blipFill>
        <p:spPr>
          <a:xfrm>
            <a:off x="201600" y="1096920"/>
            <a:ext cx="8345520" cy="51577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9"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EP 1: BASIC COMPLIANCE AND MANDATORY EVALUATION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Basic Compliance (As per page 7 of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eet the eligibility criteria for a tenderer (as stated in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bmit one (1) complete hard copy of the original tender to Eskom</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entral Supplier Database (CSD) number (MAA………)</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9660-D24E-4AFD-9899-692DBB67B1EF}"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991B-303D-4008-B300-B0F05DD6F18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3" name=""/>
          <p:cNvSpPr txBox="1"/>
          <p:nvPr/>
        </p:nvSpPr>
        <p:spPr>
          <a:xfrm>
            <a:off x="250920" y="1125360"/>
            <a:ext cx="8378640" cy="53280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Mandatory Tender Returnables </a:t>
            </a:r>
            <a:r>
              <a:rPr b="1" lang="en-US" sz="1000" spc="-1" strike="noStrike" u="sng">
                <a:solidFill>
                  <a:srgbClr val="003896"/>
                </a:solidFill>
                <a:uFillTx/>
                <a:latin typeface="Arial"/>
              </a:rPr>
              <a:t>(As per page 8 of the invitation to tender):</a:t>
            </a:r>
            <a:endParaRPr b="0" lang="en-US" sz="10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Commercial Requirements</a:t>
            </a:r>
            <a:endParaRPr b="0" lang="en-US" sz="20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Proof of Registration with the Central Supplier Database (CSD)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Valid proof registration of CIDB (Construction Industry Development Board) Registration</a:t>
            </a:r>
            <a:r>
              <a:rPr b="1" lang="en-US" sz="1800" spc="-1" strike="noStrike">
                <a:solidFill>
                  <a:srgbClr val="484d71"/>
                </a:solidFill>
                <a:latin typeface="Arial"/>
              </a:rPr>
              <a:t>, (level 3CE or Higher), </a:t>
            </a:r>
            <a:r>
              <a:rPr b="0" lang="en-US" sz="1800" spc="-1" strike="noStrike">
                <a:solidFill>
                  <a:srgbClr val="484d71"/>
                </a:solidFill>
                <a:latin typeface="Arial"/>
              </a:rPr>
              <a:t>Where valid proof of CIDB registration is not available at tender closing deadline, tenderers are at a minimum expected to provide valid proof of application for registration and proof of actual registration by contract award.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SBD 6.1 Preference Point claim form in terms of PPPFA 2017 Regulation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 </a:t>
            </a:r>
            <a:r>
              <a:rPr b="0" lang="en-US" sz="1800" spc="-1" strike="noStrike">
                <a:solidFill>
                  <a:srgbClr val="484d71"/>
                </a:solidFill>
                <a:latin typeface="Arial"/>
              </a:rPr>
              <a:t>Fully completed and signed standard bidding document 1 (SBD1). </a:t>
            </a:r>
            <a:endParaRPr b="0" lang="en-US" sz="1800" spc="-1" strike="noStrike">
              <a:solidFill>
                <a:srgbClr val="003896"/>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4d71"/>
                </a:solidFill>
                <a:latin typeface="Arial"/>
              </a:rPr>
              <a:t>SD&amp;L-</a:t>
            </a:r>
            <a:endParaRPr b="0" lang="en-US" sz="2000" spc="-1" strike="noStrike">
              <a:solidFill>
                <a:srgbClr val="003896"/>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84d71"/>
                </a:solidFill>
                <a:latin typeface="Arial"/>
              </a:rPr>
              <a:t>B-BBEE level 1-4 </a:t>
            </a:r>
            <a:r>
              <a:rPr b="0" lang="en-ZA" sz="1800" spc="-1" strike="noStrike">
                <a:solidFill>
                  <a:srgbClr val="484d71"/>
                </a:solidFill>
                <a:latin typeface="Arial"/>
              </a:rPr>
              <a:t>	</a:t>
            </a:r>
            <a:endParaRPr b="0" lang="en-US" sz="18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d71"/>
                </a:solidFill>
                <a:latin typeface="Arial"/>
              </a:rPr>
              <a:t>Tenderers who do not submit mandatory tender returnables as at stipulated deadlines will be disqualified</a:t>
            </a:r>
            <a:r>
              <a:rPr b="1" lang="en-US" sz="2000" spc="-1" strike="noStrike">
                <a:solidFill>
                  <a:srgbClr val="003896"/>
                </a:solidFill>
                <a:latin typeface="Arial"/>
              </a:rPr>
              <a:t>.</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116E-D39B-40D8-8EA5-F374C1FE0857}"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B02B-A79B-4499-B087-829974A0727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7" name=""/>
          <p:cNvSpPr txBox="1"/>
          <p:nvPr/>
        </p:nvSpPr>
        <p:spPr>
          <a:xfrm>
            <a:off x="250920" y="1125000"/>
            <a:ext cx="8378640" cy="50454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1 REQUIREMENTS WILL PROCEED TO THE NEXT STAGE </a:t>
            </a:r>
            <a:endParaRPr b="0" lang="en-US" sz="4000" spc="-1" strike="noStrike">
              <a:solidFill>
                <a:srgbClr val="003896"/>
              </a:solidFill>
              <a:latin typeface="Arial"/>
            </a:endParaRPr>
          </a:p>
        </p:txBody>
      </p:sp>
      <p:sp>
        <p:nvSpPr>
          <p:cNvPr id="68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19C1-80BD-4A6F-83D5-C3445D51DAF1}" type="datetime">
              <a:rPr b="0" lang="en-ZA" sz="1000" spc="-1" strike="noStrike">
                <a:solidFill>
                  <a:srgbClr val="83725b"/>
                </a:solidFill>
                <a:latin typeface="Arial"/>
              </a:rPr>
              <a:t>26-07-31</a:t>
            </a:fld>
            <a:endParaRPr b="0" lang="en-US" sz="1000" spc="-1" strike="noStrike">
              <a:solidFill>
                <a:srgbClr val="003896"/>
              </a:solidFill>
              <a:latin typeface="Arial"/>
            </a:endParaRPr>
          </a:p>
        </p:txBody>
      </p:sp>
      <p:sp>
        <p:nvSpPr>
          <p:cNvPr id="68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9017-0A85-4DF6-8F58-57870F918DE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Lungile Mathetha</cp:lastModifiedBy>
  <cp:lastPrinted>2015-01-30T08:09:19Z</cp:lastPrinted>
  <dcterms:modified xsi:type="dcterms:W3CDTF">2022-03-29T12:54:51Z</dcterms:modified>
  <cp:revision>3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